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821-254C-4985-AB9B-037060FC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1C3-553D-449C-A0B5-3B81540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F86-BF16-404B-9E27-9AFC06E2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139-16E1-4E05-BCB6-40B46275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6D1-5CB6-40C8-8760-DEF72C95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021-A703-4D61-B724-8BF0338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2874-C647-4205-9103-71F2DBC2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C9C-99DB-4D1C-885A-FC0A02AB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5686-EAE7-46E2-BC42-58F5C487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7515-A908-4CF5-BEA4-B8576AC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866F-201F-415B-89EF-54A8A861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FBB-597E-472B-A499-762D703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4FA-8463-45FC-94EB-094FD081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84D-F3B6-4AD2-855A-B6F118B1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1A6-3657-49C7-A5CD-900ADBB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7321-0919-4C74-9C26-918075F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A94-1C3A-4652-A535-FC300650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FBF-9AD4-4365-BC0C-80C2C71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70C-2699-4DBF-A3E6-42BD3F2C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3C2-2188-46AD-95D9-47E3FE93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DCA-8DC4-49C9-8560-F2A610E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0AF-E0D4-42F4-A38F-BDBA92C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026-ABD6-4C31-B072-A12E225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9DF-85B3-4361-BEE2-621A91F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5F9E-71FD-4543-A53D-E7741FBE5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6780-CCE0-4736-9AD4-7DB7F749E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dublogs.org/" TargetMode="External"/><Relationship Id="rId2" Type="http://schemas.openxmlformats.org/officeDocument/2006/relationships/hyperlink" Target="http://www.wikispaces.com/site/for/teachers" TargetMode="External"/><Relationship Id="rId3" Type="http://schemas.openxmlformats.org/officeDocument/2006/relationships/hyperlink" Target="http://pbwiki.com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rborheights.wikispace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wikispaces.com/2007/09/widgets.html" TargetMode="External"/><Relationship Id="rId2" Type="http://schemas.openxmlformats.org/officeDocument/2006/relationships/hyperlink" Target="http://blog.wikispaces.com/2007/09/widgets.html" TargetMode="External"/><Relationship Id="rId3" Type="http://schemas.openxmlformats.org/officeDocument/2006/relationships/hyperlink" Target="http://blog.wikispaces.com/2007/09/widgets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ikis, Blogs, and Mor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ing Into Web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1880" y="5921280"/>
            <a:ext cx="21319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tephanie Labert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200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school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ich Servi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Edublo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dublog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iki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ikispaces.com/site/for/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PBw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pbwiki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blog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edu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blog Fea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izable 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ed videos, imag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s for kids (gm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S f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pa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tabs on eac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get available for a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B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ss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upgrade 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age l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/comment on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widget available for a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a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moeruavatar.com/index_en.s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125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educationalsoftware.wikispaces.com/Avat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2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ssion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tech-training.wikispaces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edited coll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the exchange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Arbor Heights E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o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nteractiv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d by discussion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ikispaces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b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's So Special About Wikis and Blog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publishing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ited in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cational 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curriculum framework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Appropriat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context for teaching ethics, Internet safety, copy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o Kids Lik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ogs and Wiki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 Aud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 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ter Community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LMS and Teac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pass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able 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om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ing other schools access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Guideli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what is appropriate and permi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respect for others' opin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4:33:56Z</dcterms:created>
  <dc:creator>Stephanie Labert</dc:creator>
  <dc:description/>
  <dc:language>en-US</dc:language>
  <cp:lastModifiedBy>Stephanie Labert</cp:lastModifiedBy>
  <dcterms:modified xsi:type="dcterms:W3CDTF">2008-04-19T02:58:54Z</dcterms:modified>
  <cp:revision>73</cp:revision>
  <dc:subject/>
  <dc:title>Slide 1</dc:title>
</cp:coreProperties>
</file>